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E2A-3C6F-4170-B95F-ECE866875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01E3-E4ED-4994-876C-456F8F71C45B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Decrease technology and personnel needs exponentiall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Art is NOT writing, it is research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Network, partner with other agencies, develop relationships with gran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9A8F-DE62-433A-8DD3-E0ED1543D7E7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$42.9 Billion giving in 2007 by U.S. Foundations </a:t>
            </a:r>
            <a:r>
              <a:rPr b="0" lang="en-US" sz="1500" spc="-1" strike="noStrike">
                <a:solidFill>
                  <a:srgbClr val="191919"/>
                </a:solidFill>
                <a:latin typeface="Calibri"/>
              </a:rPr>
              <a:t>(Source: Foundation Center)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rom experi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Technology mos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Rare for salaries or PR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Closed”, i.e. application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Open”, i.e. general “Request for Suppor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852-C71D-4F35-8704-D7744E17F454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Target audi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19"/>
                </a:solidFill>
                <a:latin typeface="Calibri"/>
              </a:rPr>
              <a:t>Pull the heart st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DIRECT statement of cost &amp; what i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Brief explanation of why you n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19"/>
                </a:solidFill>
                <a:latin typeface="Calibri"/>
              </a:rPr>
              <a:t>Give examples of successes &amp; fail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91919"/>
                </a:solidFill>
                <a:latin typeface="Calibri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19"/>
                </a:solidFill>
                <a:latin typeface="Calibri"/>
              </a:rPr>
              <a:t>Expected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191919"/>
                </a:solidFill>
                <a:latin typeface="Calibri"/>
              </a:rPr>
              <a:t>(“Without XXX special support, this life-saving equipment could not be purchased.”</a:t>
            </a:r>
            <a:r>
              <a:rPr b="0" lang="en-US" sz="1900" spc="-1" strike="noStrike">
                <a:solidFill>
                  <a:srgbClr val="191919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91919"/>
                </a:solidFill>
                <a:latin typeface="Calibri"/>
              </a:rPr>
              <a:t>Tight budgets, state aid cut for local municipalities, levy lim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25B0-1489-43FD-93AB-632A01ABFD0C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edera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Grants.gov (www.grants.go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EMA, USDA, DOJ, DHS, Ed, HUD, OJA, NIH, NIJ, OVAW, NTHSA, NTSB, FAA, USFA, COPS, BJA, OJJDP, OPJ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Emsgrantshel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Firegrantshel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Most federal grants need to be completed through an onlin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State- 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Offices of Public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Local- 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Hospital Founders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Public Access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B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Wal-m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191919"/>
                </a:solidFill>
                <a:latin typeface="Calibri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7E8-36CD-4D83-932E-5F8A9B31C6E4}" type="slidenum">
              <a:rPr b="0" lang="en-US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F5F-59DC-4DC3-9EDC-1D6CD0F0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934-06D4-4362-89E5-EBE9D77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A18-ADFB-4AAB-82B5-40C0568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31D-1DC9-4A68-9EE5-96720D29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FA48-1247-4612-BCCD-C9EC8E70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5489-E671-4086-958E-70629E4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9894-5105-4C61-80CD-70EC013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0BA4-0EC6-4240-9642-16E22E7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3EC4-9DDF-4386-8280-CBD39CB8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FD5B-96E0-4B15-8AEC-A463D46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FB36-26D1-4EF1-8C75-D1DED77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019-4181-4D30-BD43-567B9EB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C02-21FF-48EE-B159-D3B19D7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B0D9-F454-49B3-83F0-D961E79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47B6-7A3B-4113-9429-1A2AEFEA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8D76-D7B5-4BCB-B1E9-1562F913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8E8-9466-46B3-B473-44F26FAD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034-9542-4669-90EF-2F3D37DE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610-C5C7-4F02-B437-39BC477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290-A7DD-4AB6-AE02-F9D65AC1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1CD-BF18-4677-8628-AEE9E1A3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56D-CD98-4627-865A-B559423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6AA-05CC-418B-BF66-84DC36D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2AD-A323-4BBA-9553-68D2226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66D4-400A-46CA-BA77-4BD06C457D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C7CA-BCB2-4241-9983-4C8936608838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5"/>
          <p:cNvSpPr/>
          <p:nvPr/>
        </p:nvSpPr>
        <p:spPr>
          <a:xfrm>
            <a:off x="4114800" y="5638680"/>
            <a:ext cx="4495680" cy="45720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3276720" y="304920"/>
            <a:ext cx="5181480" cy="76176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Arial Black"/>
              </a:rPr>
              <a:t>Getting Grants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1120" y="55623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roposals &amp; Resourc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3"/>
          <p:cNvSpPr/>
          <p:nvPr/>
        </p:nvSpPr>
        <p:spPr>
          <a:xfrm>
            <a:off x="3124080" y="380880"/>
            <a:ext cx="5639040" cy="68580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400" y="3805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0a301"/>
                </a:solidFill>
                <a:latin typeface="Arial Black"/>
              </a:rPr>
              <a:t>Download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581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 Grants, Grants Lists, etc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stcroixems.com/gra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/>
          <p:cNvSpPr/>
          <p:nvPr/>
        </p:nvSpPr>
        <p:spPr>
          <a:xfrm>
            <a:off x="3124080" y="609480"/>
            <a:ext cx="5639040" cy="60984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 Black"/>
              </a:rPr>
              <a:t>Adam Wojciehowski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.A., NREMT-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= Bag toter</a:t>
            </a:r>
            <a:br>
              <a:rPr sz="3200"/>
            </a:b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. Croix EMS &amp; Rescu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rset Police Departm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360" y="43434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a642"/>
                </a:solidFill>
                <a:latin typeface="Arial"/>
              </a:rPr>
              <a:t>decrease needs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7" name="Picture 4" descr="pressurepiggybank.jpg"/>
          <p:cNvPicPr/>
          <p:nvPr/>
        </p:nvPicPr>
        <p:blipFill>
          <a:blip r:embed="rId1"/>
          <a:stretch/>
        </p:blipFill>
        <p:spPr>
          <a:xfrm>
            <a:off x="4724280" y="990720"/>
            <a:ext cx="34275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5000" y="548604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99" name="Picture 4" descr="teamwork.jpg"/>
          <p:cNvPicPr/>
          <p:nvPr/>
        </p:nvPicPr>
        <p:blipFill>
          <a:blip r:embed="rId1"/>
          <a:stretch/>
        </p:blipFill>
        <p:spPr>
          <a:xfrm>
            <a:off x="685800" y="685800"/>
            <a:ext cx="3433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ounded Rectangle 3"/>
          <p:cNvSpPr/>
          <p:nvPr/>
        </p:nvSpPr>
        <p:spPr>
          <a:xfrm>
            <a:off x="609480" y="380880"/>
            <a:ext cx="3581640" cy="914400"/>
          </a:xfrm>
          <a:prstGeom prst="roundRect">
            <a:avLst>
              <a:gd name="adj" fmla="val 16667"/>
            </a:avLst>
          </a:prstGeom>
          <a:solidFill>
            <a:srgbClr val="dff3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Where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question.jpg"/>
          <p:cNvPicPr/>
          <p:nvPr/>
        </p:nvPicPr>
        <p:blipFill>
          <a:blip r:embed="rId1"/>
          <a:stretch/>
        </p:blipFill>
        <p:spPr>
          <a:xfrm>
            <a:off x="5541840" y="1365120"/>
            <a:ext cx="20289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720" y="3808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Key Point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is the key to grant succ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has one walk left in the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locally for smaller/quicker gra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leeding stops sooner or la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ogressive and aggressive in your gra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rger the patient, the higher floor they will be found 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32:54Z</dcterms:created>
  <dc:creator>profile</dc:creator>
  <dc:description/>
  <cp:keywords/>
  <dc:language>en-US</dc:language>
  <cp:lastModifiedBy>A.Wojciehowski</cp:lastModifiedBy>
  <dcterms:modified xsi:type="dcterms:W3CDTF">2009-01-23T04:57:30Z</dcterms:modified>
  <cp:revision>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33</vt:lpwstr>
  </property>
</Properties>
</file>